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B43-981E-40CC-9478-F85CAF4B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A40-CE9E-44B7-A1B0-B8B8BEBA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2E4-1CFF-4109-8786-F94EB674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D64-BFAE-4236-9139-63A06FB1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3A0-2459-4CF9-BC9D-8B9872B8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714-4C2F-40B2-8FE4-2E7282B8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506-6DD8-4AE6-B96F-EF1A5A28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B28-71DF-4D0C-BFD1-4ED2B38F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382-B0FB-439E-A4A6-75F16205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594-1055-4C67-8DC8-D3264D63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6F2-64A7-407C-A0B8-90F625E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121-FB4F-4C9D-B55A-224A647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ABFA-6933-4631-9BF1-E2EF2C5C48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s from TK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ong theme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Kill A Mockingbi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bout how we learn to understand and respect others, no matter what back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out the novel, the children, mostly Scout, receive a moral education about this the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s from Calpurn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should treat their company with resp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do not all have the same opportunities, possessions, etc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people should be treated the same and with resp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s from Atti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should not be judged by their parents or fami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not be held responsible if they do not know be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not be expected to know every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essons from Attic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amily name does not determine who you are as a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eople do is their own busi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can better understand others if they consider their point of vie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 of 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ver really understand a person until you consider things from his point of view . . . until you climb into his skin and walk around in it.” –Atti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terature: Different Ki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eal life: Perspective of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V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f 1-3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 shoe (two groups may use same one if desi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character based upon the sho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hand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real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, have fun with your creativit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wait to name until l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orrow: Activity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ten para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k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3:33:08Z</dcterms:created>
  <dc:creator>USD497</dc:creator>
  <dc:description/>
  <dc:language>en-US</dc:language>
  <cp:lastModifiedBy>Jacob Larson FSHS</cp:lastModifiedBy>
  <dcterms:modified xsi:type="dcterms:W3CDTF">2012-04-25T17:42:55Z</dcterms:modified>
  <cp:revision>12</cp:revision>
  <dc:subject/>
  <dc:title>Lessons from TKAM, ch. 4-6</dc:title>
</cp:coreProperties>
</file>